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44655-7BA7-43D4-AD94-A127482D7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BABA7-7381-4FBE-8A56-159CEE8AD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69053-DDE6-41A5-BA3A-D9A0A31BA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11E42-0988-46D0-8927-8B90CE7A3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52942-4194-42CF-A8D7-B5BA9600E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83E-E6DD-486C-94FA-1819A96F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E75-33BC-4E11-8B4E-27373F37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086-BE40-4361-B239-72986495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2D1-189B-4E7B-8CE5-D48D10C3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AE8-A84A-45B3-9D70-21FC461B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09A-AE9B-4CC3-8CD1-869CB9F8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C0C-C871-400B-A4D0-BDCA1495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403-CF60-4E63-9884-0426CF75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04E-3549-4D11-B44E-61524ECB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C01-2AF7-4CE6-9FED-1FAD1098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4CD-01CD-4CD7-852E-D28BCBCD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7EB-539C-4FEC-8075-6FCB878B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C8F1C-659A-456A-9D5A-83D73109FF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731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ns, Germs, &amp; Steel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so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onialism and Germ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view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World Health Organization “50 Facts: Global Health Situation and Trends 1955-2025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:  Multiple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9920" y="1480680"/>
            <a:ext cx="907092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eaths in children under age 5 are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fectious diseases and mal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emature birth/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idents/inj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A - More than 5 million each year die from diseases such as pneumonia and dysentery (diarrhea leading to malnutrition), mostly in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1588680"/>
            <a:ext cx="9070920" cy="59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: At least 40% of the deaths in children under age 5 that occur worldwide each year could be prevented by administering existing vaccines to young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True.  Of the 5 million+ children under five who die each year, 2 million deaths could be prevented by administering existing vaccines and most of the rest would be preventable by other means (i.e. good nutrition, hygiene, clean wat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6353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5 most deadly infectious diseases world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ute Lower Respiratory Infections/Pneumon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7 million deaths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uberculosis (2.9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Dysentery (Diarrhea) (2.5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HIV/AIDS (2.3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Malaria (1.5-2.7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HIV/AIDS are easily preventable and/or tre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4680" y="198360"/>
            <a:ext cx="906768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9760" y="1265400"/>
            <a:ext cx="9524880" cy="62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surprised by the answers to any of the questions? If so, which ones, and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erson living in the U.S., would you expect to suffer from the infectious diseases that are the top killers worldwide?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age where so much medical technology is available, particularly in the form of medications and vaccines, why do you think so many people are still dying from preventable dise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make you feel when you think about people in developing countries dying from these types of diseases at alarmingly high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hould be responsible for helping to eradicate these diseas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4:18:23Z</dcterms:created>
  <dc:creator/>
  <dc:description/>
  <dc:language>en-US</dc:language>
  <cp:lastModifiedBy>Dominic Lambek</cp:lastModifiedBy>
  <dcterms:modified xsi:type="dcterms:W3CDTF">2013-12-06T19:02:48Z</dcterms:modified>
  <cp:revision>3</cp:revision>
  <dc:subject/>
  <dc:title>“Guns, Germs, &amp; Steel” Episode 3</dc:title>
</cp:coreProperties>
</file>